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418-CF12-4674-8D94-1FF661B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F2-CAE2-4218-9704-DA883F7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3C0-7F46-402C-97B0-53E4011F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F8-1C69-4E43-94DC-A0F0C00A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9EAE-1A96-4A06-A008-E7EA931D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B06-B34A-47D6-8006-0C56D3F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645-1E7C-4FEC-B2C9-14C34CDF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9AC-1726-46C5-BE4B-FF8F3B3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85C2-7190-4D35-8DD1-C4D4121E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691-B4DD-46D9-BB64-BD4C1CEE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93E-346E-42DE-BC05-6B12A19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3ED-AE61-4314-8806-FE9560B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F40-0BBB-4764-B54F-FB6E626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64F8-A043-41AC-A701-FBFD4F7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F934-6DE1-416C-B7BE-4E08FA78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66F8-3A33-4A64-9E42-D57BA006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200E-987F-49ED-AE2B-E1E78E3D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E00-BB2B-41A0-A859-971D7E9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95E-A4C9-4476-A6B5-7F8C0776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483-2FB9-4EF3-96C5-3F61D46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643-58DC-4BAF-AFE6-682674C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4A4-524E-4683-B037-5868C40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401-F3C6-4454-B806-1085CB9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E8E-CFD2-460C-826F-9812026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306-F2BF-4B6C-ABC9-19877B00DE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C47-984C-4369-BFAA-0C348095EA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MONT 20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op 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&amp; Par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ck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drai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seberry 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kewag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rney Pa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er 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cake B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co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wa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or additional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or a parent to coordinate Fundrai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w events – money to scouts proportion to the amount of time spent doing 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#1 – Day Hike – Saturday Decembe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0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y &amp; Weekend hikes - 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ared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keout #1 – Monday November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8:00 P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shakeouts – 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crew is expected to attend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7 Treks – available Mar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choose Trek till tha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6 Treks – can be used only for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dition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&amp;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(Personal &amp; Cr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rai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e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dition 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ust 2, 2007 – August 14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2) – lunch, start of exp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13) – off the tr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14) – depart Philmont after break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need to arrive August 1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to travel arrival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s &amp; Pay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mized cost sheet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mized payment schedule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payments to Philmo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00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6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Troop advanced 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200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2940    Extended from Oct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00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29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* Troop does not have the funds available to advance this pay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ies to be used by the entire cr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ed equally by all crew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rew members personal supp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 / Sleeping Bag / Tent /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included in the itemized Cost 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Cr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 Pur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ing Sto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 Can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ing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id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ct Ta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ylon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stic Garden Sho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llon Size Ziploc B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 S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981080"/>
            <a:ext cx="377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 More to com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Individ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pack &amp; Rain 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ow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poon/sp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Nalg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2-liter blad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wing K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 Su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screen (mi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ect Spray (mi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i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981080"/>
            <a:ext cx="338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lon size Ziploc B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t (2 person to sh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kerch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eping B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eping 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 More to com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Clot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king Bo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 Wool Sock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w Shirt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n G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ece Sweatshirt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Pants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-A Uniform (COMPLE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eepw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more to come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d within 12 months of expedition date – for EVERY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7 Philmont Health and Medical Record form must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o be mailed shor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body goes unless they have a completed health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26:22Z</dcterms:created>
  <dc:creator> DURFEY</dc:creator>
  <dc:description/>
  <dc:language>en-US</dc:language>
  <cp:lastModifiedBy> DURFEY</cp:lastModifiedBy>
  <dcterms:modified xsi:type="dcterms:W3CDTF">2006-10-20T14:47:00Z</dcterms:modified>
  <cp:revision>9</cp:revision>
  <dc:subject/>
  <dc:title>PHILMONT 2007</dc:title>
</cp:coreProperties>
</file>